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pct" ContentType="image/x-pict"/>
  <Override PartName="/ppt/media/image4.jpeg" ContentType="image/jpeg"/>
  <Override PartName="/ppt/media/image1.pct" ContentType="image/x-pict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223EC9-C5BF-4D36-A5E4-9FBF7B45E6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40F03-48AD-4FE7-8999-B8F2124A56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AB28B8-4B2D-40D8-B96E-30D5CD2F348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1F4C76-2D80-4C78-B8AC-6002FC14A4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FAC4A9-2141-44BA-818C-6C517CDB80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9427EB-0624-477F-BD65-D780A381E9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C309C-C657-446E-9C52-F22FF9B0AA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2A2474-7983-4EBF-A9B7-B37F36EC849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DBADE7-A966-4771-94A5-6C947C4AAE3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F48FA-58D3-4AC4-A529-55BCC8DDD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51A13-415E-453B-9602-F2E360C1C0F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1A54E-CC6B-48AF-8CB7-B717C01B5FE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FB31E-032A-4546-A7F0-917EC5BF11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3E927-4DCA-4591-B926-6CB07F4CA0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B3F7F-4A29-4481-A72E-51E003FBBD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153EC-963A-4AF3-B6E4-30E3ABFFD7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BB08D-C229-4AE3-9758-1FB49A40856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C2B63-EB57-45DB-9372-45A2DCBAAE0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89AE1-55D7-43D3-9654-48B3746C39C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302F2-ACED-4777-ADF4-16B8D24EB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5D2D-8831-48BE-8C38-D1BE96E7E8C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9C7D4-6C9D-4AE5-98B0-BAF491BDB0B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4EABC-91A7-4BE1-AEE6-FC1CA661804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BA0A1-6725-43A1-A346-25F157DC07B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D7A90-7644-40A6-891A-6B4978B1028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D1814-B1E2-4256-A367-D3CD9AE962D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D2666-D035-402C-81E8-2FFEC01915B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4C52C-739D-4527-A889-5916E6321A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90E73-E2EC-4032-A0B3-211F5D1B025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35E8A-94AF-4EFD-8A98-1B2A9B85B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054E-0ECE-4DD6-AFCD-B01C0CADC09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21D6C-2E28-4A80-8A58-09DB57AC56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929A3-3723-4F54-91F8-D1B8BD794AC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001FD-425D-4DBA-9F2C-7CC44C8E32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77D2-B978-492A-8C98-54F5E64A56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AA80-62B6-4858-8EF3-4AA29F75A1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A750-94F7-4551-AC58-469A3DEF29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DA10-8229-4AAA-B785-F1EAACD917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9720-BEAE-43FC-9575-CD346B2AAE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7662-0AEC-4C96-89D3-C35D084E3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23AE-8AF5-4BCD-9C79-93F4ECA87E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1237-6AF2-49FF-AFE9-82B42CE1BA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3162-CABC-4B84-960D-526F801FF6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7A74-F583-40D2-A6FE-7134072B14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F3E1-9176-48FC-9D2D-FB8C6ADD44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5FE2D-4CE4-40F3-B21E-91A8D70097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128F9-E36C-4B7F-B5AD-9D1B68682B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4E546-293B-4F6F-A6CC-DE58BFCE6B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64BB8-5C00-4F16-A1F8-A8E03E5EBD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3315A-31F2-45BC-A8D9-59AA6438A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478C3-FEFE-491A-9920-35DC8C59CD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6E7A5-D30D-48FF-A475-D6F84EFD8E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D61F7-1592-4391-89B2-97EAABD56D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B65E4-8B42-403B-8750-60C100FBEC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EA91E-31B1-4187-BB08-BE3800E7C1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7C8C4-26A0-4085-A8B3-D03388B29F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8D4F4-E453-457B-82D8-742DEB4608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12E1-B7AD-4740-BA66-C9A96A3F5A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5574-ABE4-4029-A4B5-3986715B49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B03E-C579-469B-9267-B52FD9FB5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A6F1-1572-4132-8DE2-030FCCDE3B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7C76-2DED-48D5-B772-12C1F543CE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354C-64EB-440A-90D2-0660972A7A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8921-B217-4AFE-855C-B84C597F88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8D76-0CE7-4E93-AB53-E5F1E90D91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8F2B-3188-4A9F-9C52-64E366B297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3FB6-108B-45BD-A945-47D6A0C9DE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4519-4524-4021-A11A-8B95C9DA1C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E32B-84D0-4D7E-B2F6-F00FC677BD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29217-B798-439B-BFEF-F123F9D87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DF961-8461-498F-97D5-2B67C047C8C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F6927-BDE4-4114-82A9-EA7A1FDBB0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15F95-CD28-432E-8E43-7EDB540D28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C265C-C79A-4B92-A867-BB8C8FF7A9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090C9-1A66-45D3-A1A6-3FF06568E1E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FBF53-8A95-4971-907E-6704EB220C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A8A08-5423-44C1-827E-57DC0E5C39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74F6E-12A0-4E16-8B4C-F99112C23B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D3E8E-BC4D-4FE0-98C8-F0CF8AB33A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508DB-8084-40F9-B32A-AEA22DB4B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566CB-F8F1-4422-9C48-3CEB72B7C3E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830C9D-9D5D-4D40-9584-269B64DD2EF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4C8AC-6DDA-43B4-832B-CEADF2B792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3F868-CCF8-427C-A96D-DC3B4150F9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04A51-B9A7-4BFF-AECF-0C2855CFFD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6E02A-7E85-4F66-8E22-44697FB10D5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B253C-F98B-45EF-9488-EC6446563E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38960-4B73-4F78-8C23-70238811FAE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334D3-AFB6-42FA-AC32-2F87C382DD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B03D7-CF04-40A5-8F3B-8A93FC803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17AFF-AFF0-4D10-AF00-2FF8C4BA0E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BDF8E-C195-47A0-999D-98339D3572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C9D5D-1180-46CA-BE85-1CB22DC9020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B37C0-CE42-4B7D-8556-48386EEC65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2FA21-C55F-4003-A865-BB2C15E768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B4E7-2AED-41E0-9361-AEAA1DCCBE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41768-2332-432F-9CA7-560543F5893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6584-613B-4B0E-B08C-A3DA467F95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D48C-2E09-4020-8D14-EEA9EBF501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CC0FC-3E2E-4E0E-96CB-948985A79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D43B-807E-438D-8FD0-8E157CDFA7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7F4A-7424-4D8A-8522-E131B84159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97ED-1549-4E8F-BF07-93518E3DA4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E5B59-BD52-48D7-A0EB-4606BC8985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CA4D-D5D3-43EE-BB06-983975A87E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73BF9-4ED5-47F4-B5DC-6C6593AC6C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981E0-7814-47A7-9D06-2D6C5AF3104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6E00E-42A2-4C68-A3C2-720CD16036A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96AB8-3019-4C2D-8AEA-1B998007CC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350E8-5D3F-4C4A-B360-3BF140D71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A9C7C-603B-4C7E-ABEB-C624EBDE796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415C7-B065-4E23-8500-C2DF2A3473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D736A-DC97-481F-8F4C-9844C97A0A6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FB998-41A4-43AE-A9F8-C00B6F93F9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35B7C-42D5-4F81-89FB-E2597DF391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BD3E9-CC57-4982-AC22-55B1EF901F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A9275-FAB8-411B-85E9-410AFE0408D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1B87D7-DE14-45B6-B0D9-84EB6461DC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5C0E62-7972-403A-B199-629C9CB706A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7A776A-0B0E-4929-8339-135E59744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CCBF-6D73-46F8-A8FB-7ED2A823EFD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57B9-6CC4-4ADA-81A5-5A16BA4D66B9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2D88-B7EB-4496-9CF3-9AAC4CC5E4B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E313-FE92-4884-8229-432CF94632F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58A7-F663-4B54-9030-0A38FAB0EEC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8618-BD51-4E73-9E74-27F0EFBDC92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56FF-B3EF-4D8A-A5E5-981BB75E579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A689-C63E-4808-9110-AE20D2568B6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5BBD-5803-451C-AB07-BC44092080E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523256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2F68-D263-4991-AC53-1AB706756E4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Fotografia: lo spirito della profession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Corrado Criscian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80 Polimi + 15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429000"/>
            <a:ext cx="828036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l corso proposto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"Fotografia, lo spirito della professione"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vuole indagare la cultura, i metodi, le tecniche e il particolare atteggiamento che fa di un fotografo un fotografo professionista.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arà un corso fortemente improntato alla sperimentazione e alla pratica articolato, per quanto possibile, in workshop tematici relativi agli indirizzi presenti nella Scuola del Design. Quindi Moda, Interni, Prodotto e Comunicazione.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gni Ws sarà preceduto da  un'esposizione teorica. mentre la parte pratica si svolgerà in LabFoto o in esterno e sarà seguito da esercitazioni autonome da svolgersi in LabFoto nella modalità di accesso libero assistito o in esterni a seconda della necessita. Alla fine del corso sarà richiesta la presentazione e la realizzazione di un progetto fotografico relativo ad una delle quattro tematiche a scelta degli studenti. Pagina FB </a:t>
            </a:r>
            <a:r>
              <a:rPr b="1" lang="it-IT" sz="1200" spc="-1" strike="noStrike">
                <a:solidFill>
                  <a:srgbClr val="ff3300"/>
                </a:solidFill>
                <a:latin typeface="Verdana"/>
              </a:rPr>
              <a:t>www.facebook.com/FotografiaSpiritoDellaProfessione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122880" y="1066680"/>
            <a:ext cx="2833920" cy="42674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240000" y="1066680"/>
            <a:ext cx="2855880" cy="42674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57200" y="5791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itratto, Moda, Beauty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3222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" y="5791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rchitettura, Intern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2976480" cy="42004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276720" y="1066680"/>
            <a:ext cx="2779560" cy="41911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rcRect l="7673" t="3580" r="5382" b="5144"/>
          <a:stretch/>
        </p:blipFill>
        <p:spPr>
          <a:xfrm>
            <a:off x="6172200" y="1066680"/>
            <a:ext cx="279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5791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till Life, Prodott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693880" cy="38098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967120" y="1219320"/>
            <a:ext cx="3052800" cy="38098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6172200" y="1219320"/>
            <a:ext cx="282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5791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unicazione Pubblicitaria, Sociale, Reportag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rcRect l="0" t="0" r="0" b="5556"/>
          <a:stretch/>
        </p:blipFill>
        <p:spPr>
          <a:xfrm>
            <a:off x="152280" y="1066680"/>
            <a:ext cx="3027600" cy="4267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276720" y="1066680"/>
            <a:ext cx="2832120" cy="4267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6248520" y="1066680"/>
            <a:ext cx="2841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6151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www.facebook.com/FotografiaSpiritoDellaProfession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90440" y="1960560"/>
            <a:ext cx="8763120" cy="4257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04920" y="12193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Pagina FB del cors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Maga Magò</cp:lastModifiedBy>
  <cp:lastPrinted>2003-05-08T11:08:41Z</cp:lastPrinted>
  <dcterms:modified xsi:type="dcterms:W3CDTF">2014-07-28T15:26:42Z</dcterms:modified>
  <cp:revision>208</cp:revision>
  <dc:subject/>
  <dc:title>Inserire immagine della locandina, possibilmente in trasparenza e aggiungere Facoltà di Architettura Illustrazione prova di ammissione prof. Silvia Piardi (idem Cedolin)</dc:title>
</cp:coreProperties>
</file>